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712-07F3-417F-B4F8-F3098D4D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658-CA49-4DD9-BE8E-2558CD5F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E5C-71C5-4B6D-8FBC-04862ACF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3C1-4A89-4144-B337-D3523392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662-EC17-4453-8561-618A16BE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C9E-FC01-4B97-B95D-80FAC525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BEF-4A7A-4DE5-BFD5-D8B4E697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FE2-9855-4017-B276-6709EA42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7A0-1D55-4DBA-9F96-2FF01468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167-2AC4-4C0E-A156-214A74AB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365-9CE8-42C4-BD58-9D44399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5E3-93FC-485C-98FB-C4DE4D1A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B17F-5F58-4766-9261-8BAA36651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4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t officially released vegetable varieties and associated technologies in rotation, relay, mixed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getables already released by the Tanzanian gover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HORT C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itiate partnerships with stakeholders especially farme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tter ensures relevance with what we should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ITA (T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pacity building in crucial areas (field agents, nutrition) in preparation for participation in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ed skilled and knowledgeable partners in component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earch groups of the specific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tension of animal feeding technologies that lead to rapid fattening or increased milk/meat/egg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ll create a link between the project and the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strict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raining farmer groups to produce quality declared (certified) 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king seed of superior varieties available 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SCI, District agents, CG centers 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uilding networks/relationship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ignment of SI technologies with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y marke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gional traders, PPP, 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mmunication, technology transfer and outreach strategy (field days, 8-8, seedfairs, on-farm demos, leaflets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ach thousands of people; supporting the project stimulate interest of stakeholders about project 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tional programmes, supported by IITA/local 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dentification of potential students (selection and placement of MSc. And PhD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uman capital; sustainable program operations; 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ject partners, CR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enhancing recipes in local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ready being done by AVRDC, requires scaling 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st-harvest technologies for longer and safer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crease food supply/safety and improve 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 sector, TFNC, IITA, 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dense varieties (eg. Fortified maize varieties, iron-reach mung-bean, protein rich soy bean, vitamin-rich vegetab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ptimization of components of systems intensification. Improve nutrient level of vulnerabl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 especially ICRISAT, ILRI, AVRDC. Linkages with HarvestPlus, Peanut C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94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0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rticipatory Diagnosis of opportunities for systems intensification; Farmer-identified priorities for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 identify the best local opportunities for intensifying loc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utreach partners, farmers and other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sh-pull technique for  stem borer control and forage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n be done together with variety evaluation; integration of livestock and 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LRI, CIAT, NAR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ication of networks that support knowledge 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 know who potential partners are lo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, SANREM CRS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ppropriate and safe soil, water and pest management options for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-adapt with farmers available soil, water and pest management technologies to boost current vegetable productivity in a cereal-vegetable-livestock system contex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CIAT, IITA, ILR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06:57Z</dcterms:created>
  <dc:creator>cojiewo</dc:creator>
  <dc:description/>
  <dc:language>en-US</dc:language>
  <cp:lastModifiedBy>eleborgne</cp:lastModifiedBy>
  <dcterms:modified xsi:type="dcterms:W3CDTF">2012-02-08T11:28:45Z</dcterms:modified>
  <cp:revision>14</cp:revision>
  <dc:subject/>
  <dc:title>Slide 1</dc:title>
</cp:coreProperties>
</file>